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1A9-8148-47A8-A17B-2DC1D79C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7DD-44BC-42EF-989F-06F1345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B02-EA98-4E20-A800-0C255828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71B-9269-4833-A49A-970FD118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C3E-E9DF-4F9C-A2A2-51BF784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506-E84E-4CC8-8446-23310D3E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EF3-21A4-4640-AE47-0871C01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721-3AE9-48F1-8C0A-BE0F2EB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76E-282B-404B-B71B-D64346C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B70-C839-499D-9319-C76F41C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A51-2A73-42DE-B832-10A3CD5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EBA-FB29-4F3F-ACFD-2894F32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2E9-3E52-40B3-B0C4-F6D38205F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3:02Z</dcterms:created>
  <dc:creator>Howard Burrows</dc:creator>
  <dc:description/>
  <dc:language>en-US</dc:language>
  <cp:lastModifiedBy>Howard Burrows</cp:lastModifiedBy>
  <dcterms:modified xsi:type="dcterms:W3CDTF">2006-03-14T20:36:24Z</dcterms:modified>
  <cp:revision>2</cp:revision>
  <dc:subject/>
  <dc:title>Slide 1</dc:title>
</cp:coreProperties>
</file>